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  <p:custShowLst>
    <p:custShow name="Prilagođena projekcija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660-746C-42FE-B962-EF3564E8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35D-0860-4971-A43A-7BE7BB96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33C-C387-4484-B5B9-9DC8E67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AA9-1FC4-4E5B-A052-2E0B95A0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3AE-1F75-4FEC-9CBE-42420DE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169-3A31-4C9C-B23D-30CE606C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ADB-CFF4-4442-B9FD-9AC618DF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A7F-110C-433E-A6A4-F1897F1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1C3-A4B0-401D-A9BD-10F742B4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074-9D83-48FE-8A22-7BD66A3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023-4930-4A38-A034-C30FCC5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AF0-0234-4061-AEF2-5FFC217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D4D3-0E55-43AD-A6E2-677F6B0F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audio" Target="../media/drumroll.wav"/><Relationship Id="rId29" Type="http://schemas.openxmlformats.org/officeDocument/2006/relationships/audio" Target="../media/drumroll.wav"/><Relationship Id="rId30" Type="http://schemas.openxmlformats.org/officeDocument/2006/relationships/audio" Target="../media/applause.wav"/><Relationship Id="rId31" Type="http://schemas.openxmlformats.org/officeDocument/2006/relationships/audio" Target="../media/drumroll.wav"/><Relationship Id="rId32" Type="http://schemas.openxmlformats.org/officeDocument/2006/relationships/audio" Target="../media/drumroll.wav"/><Relationship Id="rId33" Type="http://schemas.openxmlformats.org/officeDocument/2006/relationships/audio" Target="../media/drumroll.wav"/><Relationship Id="rId34" Type="http://schemas.openxmlformats.org/officeDocument/2006/relationships/audio" Target="../media/drumroll.wav"/><Relationship Id="rId35" Type="http://schemas.openxmlformats.org/officeDocument/2006/relationships/audio" Target="../media/drumroll.wav"/><Relationship Id="rId36" Type="http://schemas.openxmlformats.org/officeDocument/2006/relationships/audio" Target="../media/drumroll.wav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applause.wav"/><Relationship Id="rId41" Type="http://schemas.openxmlformats.org/officeDocument/2006/relationships/audio" Target="../media/drumroll.wav"/><Relationship Id="rId42" Type="http://schemas.openxmlformats.org/officeDocument/2006/relationships/audio" Target="../media/drumroll.wav"/><Relationship Id="rId43" Type="http://schemas.openxmlformats.org/officeDocument/2006/relationships/audio" Target="../media/drumroll.wav"/><Relationship Id="rId44" Type="http://schemas.openxmlformats.org/officeDocument/2006/relationships/audio" Target="../media/drumroll.wav"/><Relationship Id="rId45" Type="http://schemas.openxmlformats.org/officeDocument/2006/relationships/audio" Target="../media/drumroll.wav"/><Relationship Id="rId46" Type="http://schemas.openxmlformats.org/officeDocument/2006/relationships/audio" Target="../media/drumroll.wav"/><Relationship Id="rId47" Type="http://schemas.openxmlformats.org/officeDocument/2006/relationships/audio" Target="../media/drumroll.wav"/><Relationship Id="rId48" Type="http://schemas.openxmlformats.org/officeDocument/2006/relationships/audio" Target="../media/drumroll.wav"/><Relationship Id="rId49" Type="http://schemas.openxmlformats.org/officeDocument/2006/relationships/audio" Target="../media/drumroll.wav"/><Relationship Id="rId50" Type="http://schemas.openxmlformats.org/officeDocument/2006/relationships/audio" Target="../media/applause.wav"/><Relationship Id="rId51" Type="http://schemas.openxmlformats.org/officeDocument/2006/relationships/audio" Target="../media/drumroll.wav"/><Relationship Id="rId52" Type="http://schemas.openxmlformats.org/officeDocument/2006/relationships/audio" Target="../media/drumroll.wav"/><Relationship Id="rId53" Type="http://schemas.openxmlformats.org/officeDocument/2006/relationships/audio" Target="../media/drumroll.wav"/><Relationship Id="rId54" Type="http://schemas.openxmlformats.org/officeDocument/2006/relationships/audio" Target="../media/drumroll.wav"/><Relationship Id="rId55" Type="http://schemas.openxmlformats.org/officeDocument/2006/relationships/audio" Target="../media/drumroll.wav"/><Relationship Id="rId56" Type="http://schemas.openxmlformats.org/officeDocument/2006/relationships/audio" Target="../media/drumroll.wav"/><Relationship Id="rId57" Type="http://schemas.openxmlformats.org/officeDocument/2006/relationships/audio" Target="../media/drumroll.wav"/><Relationship Id="rId58" Type="http://schemas.openxmlformats.org/officeDocument/2006/relationships/audio" Target="../media/drumroll.wav"/><Relationship Id="rId59" Type="http://schemas.openxmlformats.org/officeDocument/2006/relationships/audio" Target="../media/drumroll.wav"/><Relationship Id="rId60" Type="http://schemas.openxmlformats.org/officeDocument/2006/relationships/audio" Target="../media/applause.wav"/><Relationship Id="rId6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k2571859.jpg"/>
          <p:cNvPicPr/>
          <p:nvPr/>
        </p:nvPicPr>
        <p:blipFill>
          <a:blip r:embed="rId1"/>
          <a:stretch/>
        </p:blipFill>
        <p:spPr>
          <a:xfrm>
            <a:off x="6019920" y="4495680"/>
            <a:ext cx="2158920" cy="1930680"/>
          </a:xfrm>
          <a:prstGeom prst="rect">
            <a:avLst/>
          </a:prstGeom>
          <a:ln w="0">
            <a:noFill/>
          </a:ln>
        </p:spPr>
      </p:pic>
      <p:pic>
        <p:nvPicPr>
          <p:cNvPr id="42" name="Slika 4" descr="k2513647.jpg"/>
          <p:cNvPicPr/>
          <p:nvPr/>
        </p:nvPicPr>
        <p:blipFill>
          <a:blip r:embed="rId2"/>
          <a:stretch/>
        </p:blipFill>
        <p:spPr>
          <a:xfrm>
            <a:off x="6553080" y="380880"/>
            <a:ext cx="2159280" cy="2121120"/>
          </a:xfrm>
          <a:prstGeom prst="rect">
            <a:avLst/>
          </a:prstGeom>
          <a:ln w="0">
            <a:noFill/>
          </a:ln>
        </p:spPr>
      </p:pic>
      <p:pic>
        <p:nvPicPr>
          <p:cNvPr id="43" name="Slika 5" descr="k2571864.jpg"/>
          <p:cNvPicPr/>
          <p:nvPr/>
        </p:nvPicPr>
        <p:blipFill>
          <a:blip r:embed="rId3"/>
          <a:stretch/>
        </p:blipFill>
        <p:spPr>
          <a:xfrm>
            <a:off x="1219320" y="4495680"/>
            <a:ext cx="215892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Slika 6" descr="k2788615.jpg"/>
          <p:cNvPicPr/>
          <p:nvPr/>
        </p:nvPicPr>
        <p:blipFill>
          <a:blip r:embed="rId4"/>
          <a:stretch/>
        </p:blipFill>
        <p:spPr>
          <a:xfrm>
            <a:off x="433440" y="378000"/>
            <a:ext cx="1687320" cy="43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9400" y="2822760"/>
            <a:ext cx="7765200" cy="1394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UTRKA DJEDOVA BOŽIČNJ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avni poveznik 33"/>
          <p:cNvSpPr/>
          <p:nvPr/>
        </p:nvSpPr>
        <p:spPr>
          <a:xfrm flipH="1">
            <a:off x="914040" y="5486400"/>
            <a:ext cx="7086600" cy="0"/>
          </a:xfrm>
          <a:prstGeom prst="line">
            <a:avLst/>
          </a:prstGeom>
          <a:ln w="5724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avni poveznik 32"/>
          <p:cNvSpPr/>
          <p:nvPr/>
        </p:nvSpPr>
        <p:spPr>
          <a:xfrm flipH="1">
            <a:off x="761760" y="4419720"/>
            <a:ext cx="708660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avni poveznik 31"/>
          <p:cNvSpPr/>
          <p:nvPr/>
        </p:nvSpPr>
        <p:spPr>
          <a:xfrm flipH="1">
            <a:off x="761760" y="3276720"/>
            <a:ext cx="708660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avni poveznik 30"/>
          <p:cNvSpPr/>
          <p:nvPr/>
        </p:nvSpPr>
        <p:spPr>
          <a:xfrm flipH="1">
            <a:off x="761760" y="220968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avni poveznik 28"/>
          <p:cNvSpPr/>
          <p:nvPr/>
        </p:nvSpPr>
        <p:spPr>
          <a:xfrm flipH="1">
            <a:off x="761760" y="990720"/>
            <a:ext cx="7086600" cy="0"/>
          </a:xfrm>
          <a:prstGeom prst="line">
            <a:avLst/>
          </a:prstGeom>
          <a:ln w="57240">
            <a:solidFill>
              <a:srgbClr val="007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green_boat1"/>
          <p:cNvPicPr/>
          <p:nvPr/>
        </p:nvPicPr>
        <p:blipFill>
          <a:blip r:embed="rId1"/>
          <a:stretch/>
        </p:blipFill>
        <p:spPr>
          <a:xfrm>
            <a:off x="7942320" y="131760"/>
            <a:ext cx="94140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orange_boat1"/>
          <p:cNvPicPr/>
          <p:nvPr/>
        </p:nvPicPr>
        <p:blipFill>
          <a:blip r:embed="rId2"/>
          <a:stretch/>
        </p:blipFill>
        <p:spPr>
          <a:xfrm>
            <a:off x="7924680" y="1523880"/>
            <a:ext cx="89712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_boat1"/>
          <p:cNvPicPr/>
          <p:nvPr/>
        </p:nvPicPr>
        <p:blipFill>
          <a:blip r:embed="rId3"/>
          <a:stretch/>
        </p:blipFill>
        <p:spPr>
          <a:xfrm>
            <a:off x="7924680" y="259092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red_boat1"/>
          <p:cNvPicPr/>
          <p:nvPr/>
        </p:nvPicPr>
        <p:blipFill>
          <a:blip r:embed="rId4"/>
          <a:stretch/>
        </p:blipFill>
        <p:spPr>
          <a:xfrm>
            <a:off x="7772400" y="3795840"/>
            <a:ext cx="126216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yellow_boat1"/>
          <p:cNvPicPr/>
          <p:nvPr/>
        </p:nvPicPr>
        <p:blipFill>
          <a:blip r:embed="rId5"/>
          <a:stretch/>
        </p:blipFill>
        <p:spPr>
          <a:xfrm>
            <a:off x="7772400" y="4722840"/>
            <a:ext cx="1212840" cy="1192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2743200" y="6095880"/>
            <a:ext cx="1523880" cy="45720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267080" y="6095880"/>
            <a:ext cx="1524240" cy="457200"/>
          </a:xfrm>
          <a:prstGeom prst="irregularSeal1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5943600" y="6095880"/>
            <a:ext cx="1523880" cy="457200"/>
          </a:xfrm>
          <a:prstGeom prst="irregularSeal1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620120" y="6095880"/>
            <a:ext cx="1523880" cy="533520"/>
          </a:xfrm>
          <a:prstGeom prst="irregularSeal1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1066680" y="6095880"/>
            <a:ext cx="1524240" cy="457200"/>
          </a:xfrm>
          <a:prstGeom prst="irregularSeal2">
            <a:avLst/>
          </a:prstGeom>
          <a:solidFill>
            <a:srgbClr val="007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lika 34" descr="731190u4sl2bplxu.gif"/>
          <p:cNvPicPr/>
          <p:nvPr/>
        </p:nvPicPr>
        <p:blipFill>
          <a:blip r:embed="rId6"/>
          <a:stretch/>
        </p:blipFill>
        <p:spPr>
          <a:xfrm>
            <a:off x="0" y="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2" name="Slika 35" descr="731190u4sl2bplxu.gif"/>
          <p:cNvPicPr/>
          <p:nvPr/>
        </p:nvPicPr>
        <p:blipFill>
          <a:blip r:embed="rId7"/>
          <a:stretch/>
        </p:blipFill>
        <p:spPr>
          <a:xfrm>
            <a:off x="0" y="121932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3" name="Slika 36" descr="731190u4sl2bplxu.gif"/>
          <p:cNvPicPr/>
          <p:nvPr/>
        </p:nvPicPr>
        <p:blipFill>
          <a:blip r:embed="rId8"/>
          <a:stretch/>
        </p:blipFill>
        <p:spPr>
          <a:xfrm>
            <a:off x="0" y="2362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Slika 37" descr="731190u4sl2bplxu.gif"/>
          <p:cNvPicPr/>
          <p:nvPr/>
        </p:nvPicPr>
        <p:blipFill>
          <a:blip r:embed="rId9"/>
          <a:stretch/>
        </p:blipFill>
        <p:spPr>
          <a:xfrm>
            <a:off x="0" y="3505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Slika 38" descr="731190u4sl2bplxu.gif"/>
          <p:cNvPicPr/>
          <p:nvPr/>
        </p:nvPicPr>
        <p:blipFill>
          <a:blip r:embed="rId10"/>
          <a:stretch/>
        </p:blipFill>
        <p:spPr>
          <a:xfrm>
            <a:off x="0" y="464832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Motion origin="layout" path="M 3.33333E-006 4.28571E-006 L -0.15417 4.28571E-006 E">
                                      <p:cBhvr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Motion origin="layout" path="M -0.15417 4.28571E-006 L -0.2125 4.28571E-006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Motion origin="layout" path="M -0.2875 -3.33333E-006 L -0.3625 -3.33333E-006 E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Motion origin="layout" path="M -0.2125 -3.33333E-006 L -0.2875 -3.33333E-006 E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Motion origin="layout" path="M -0.3625 -3.33333E-006 L -0.42917 -3.33333E-006 E">
                                      <p:cBhvr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Motion origin="layout" path="M -0.42917 -3.33333E-006 L -0.5125 -3.33333E-006 E"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Motion origin="layout" path="M -0.5125 -3.33333E-006 L -0.59584 -3.33333E-006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Motion origin="layout" path="M -0.59584 -3.33333E-006 L -0.6875 -3.33333E-006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Motion origin="layout" path="M -0.6875 -3.33333E-006 L -0.77084 -3.33333E-006 E">
                                      <p:cBhvr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-0.77084 -3.33333E-006 L -0.87084 -3.33333E-006 E">
                                      <p:cBhvr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Motion origin="layout" path="M 3.33333E-006 2.22222E-006 L -0.15417 2.22222E-006 E">
                                      <p:cBhvr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Motion origin="layout" path="M -0.15417 2.22222E-006 L -0.20417 2.22222E-006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Motion origin="layout" path="M -0.20417 2.22222E-006 L -0.2875 2.22222E-006 E">
                                      <p:cBhvr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Motion origin="layout" path="M -0.2875 2.22222E-006 L -0.35417 2.22222E-006 E">
                                      <p:cBhvr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Motion origin="layout" path="M -0.35417 2.22222E-006 L -0.42084 2.22222E-006 E">
                                      <p:cBhvr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Motion origin="layout" path="M -0.42084 2.22222E-006 L -0.50417 2.22222E-006 E">
                                      <p:cBhvr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Motion origin="layout" path="M -0.50417 2.22222E-006 L -0.5875 2.22222E-006 E">
                                      <p:cBhvr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animMotion origin="layout" path="M -0.5875 2.22222E-006 L -0.6875 2.22222E-006 E">
                                      <p:cBhvr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umroll.wav"/>
                                        </p:tgtEl>
                                      </p:cMediaNode>
                                    </p:audio>
                                    <p:animMotion origin="layout" path="M -0.6875 2.22222E-006 L -0.7625 2.22222E-006 E">
                                      <p:cBhvr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-0.7625 2.22222E-006 L -0.87084 2.22222E-006 E"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umroll.wav"/>
                                        </p:tgtEl>
                                      </p:cMediaNode>
                                    </p:audio>
                                    <p:animMotion origin="layout" path="M 3.33333E-006 -2.22222E-006 L -0.1375 -2.22222E-006 E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umroll.wav"/>
                                        </p:tgtEl>
                                      </p:cMediaNode>
                                    </p:audio>
                                    <p:animMotion origin="layout" path="M -0.1375 -2.22222E-006 L -0.19584 -2.22222E-006 E">
                                      <p:cBhvr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umroll.wav"/>
                                        </p:tgtEl>
                                      </p:cMediaNode>
                                    </p:audio>
                                    <p:animMotion origin="layout" path="M -0.19584 -2.22222E-006 L -0.2875 -2.22222E-006 E">
                                      <p:cBhvr>
                                        <p:cTn id="12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umroll.wav"/>
                                        </p:tgtEl>
                                      </p:cMediaNode>
                                    </p:audio>
                                    <p:animMotion origin="layout" path="M -0.2875 -2.22222E-006 L -0.34584 -2.22222E-006 E">
                                      <p:cBhvr>
                                        <p:cTn id="1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umroll.wav"/>
                                        </p:tgtEl>
                                      </p:cMediaNode>
                                    </p:audio>
                                    <p:animMotion origin="layout" path="M -0.34584 -2.22222E-006 L -0.4125 -2.22222E-006 E">
                                      <p:cBhvr>
                                        <p:cTn id="1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umroll.wav"/>
                                        </p:tgtEl>
                                      </p:cMediaNode>
                                    </p:audio>
                                    <p:animMotion origin="layout" path="M -0.4125 -2.22222E-006 L -0.49584 -2.22222E-006 E">
                                      <p:cBhvr>
                                        <p:cTn id="1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animMotion origin="layout" path="M -0.49584 -2.22222E-006 L -0.5875 -2.22222E-006 E">
                                      <p:cBhvr>
                                        <p:cTn id="13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animMotion origin="layout" path="M -0.5875 -2.22222E-006 L -0.6875 -2.22222E-006 E">
                                      <p:cBhvr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animMotion origin="layout" path="M -0.6875 -2.22222E-006 L -0.77084 -2.22222E-006 E">
                                      <p:cBhvr>
                                        <p:cTn id="14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-0.77084 -2.22222E-006 L -0.87084 -2.22222E-006 E">
                                      <p:cBhvr>
                                        <p:cTn id="14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umroll.wav"/>
                                        </p:tgtEl>
                                      </p:cMediaNode>
                                    </p:audio>
                                    <p:animMotion origin="layout" path="M 3.33333E-006 3.33333E-006 L -0.1375 3.33333E-006 E">
                                      <p:cBhvr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umroll.wav"/>
                                        </p:tgtEl>
                                      </p:cMediaNode>
                                    </p:audio>
                                    <p:animMotion origin="layout" path="M -0.1375 3.33333E-006 L -0.19584 3.33333E-006 E">
                                      <p:cBhvr>
                                        <p:cTn id="15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umroll.wav"/>
                                        </p:tgtEl>
                                      </p:cMediaNode>
                                    </p:audio>
                                    <p:animMotion origin="layout" path="M -0.19584 3.33333E-006 L -0.27917 3.33333E-006 E">
                                      <p:cBhvr>
                                        <p:cTn id="16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umroll.wav"/>
                                        </p:tgtEl>
                                      </p:cMediaNode>
                                    </p:audio>
                                    <p:animMotion origin="layout" path="M -0.27917 3.33333E-006 L -0.34584 3.33333E-006 E">
                                      <p:cBhvr>
                                        <p:cTn id="16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umroll.wav"/>
                                        </p:tgtEl>
                                      </p:cMediaNode>
                                    </p:audio>
                                    <p:animMotion origin="layout" path="M -0.34584 3.33333E-006 L -0.4125 3.33333E-006 E">
                                      <p:cBhvr>
                                        <p:cTn id="16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umroll.wav"/>
                                        </p:tgtEl>
                                      </p:cMediaNode>
                                    </p:audio>
                                    <p:animMotion origin="layout" path="M -0.4125 3.33333E-006 L -0.49584 3.33333E-006 E">
                                      <p:cBhvr>
                                        <p:cTn id="17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umroll.wav"/>
                                        </p:tgtEl>
                                      </p:cMediaNode>
                                    </p:audio>
                                    <p:animMotion origin="layout" path="M -0.49584 3.33333E-006 L -0.5875 3.33333E-006 E">
                                      <p:cBhvr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umroll.wav"/>
                                        </p:tgtEl>
                                      </p:cMediaNode>
                                    </p:audio>
                                    <p:animMotion origin="layout" path="M -0.5875 3.33333E-006 L -0.6875 3.33333E-006 E">
                                      <p:cBhvr>
                                        <p:cTn id="1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umroll.wav"/>
                                        </p:tgtEl>
                                      </p:cMediaNode>
                                    </p:audio>
                                    <p:animMotion origin="layout" path="M -0.6875 3.33333E-006 L -0.77084 3.33333E-006 E">
                                      <p:cBhvr>
                                        <p:cTn id="18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pplause.wav"/>
                                        </p:tgtEl>
                                      </p:cMediaNode>
                                    </p:audio>
                                    <p:animMotion origin="layout" path="M -0.77084 3.33333E-006 L -0.87084 3.33333E-006 E">
                                      <p:cBhvr>
                                        <p:cTn id="18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umroll.wav"/>
                                        </p:tgtEl>
                                      </p:cMediaNode>
                                    </p:audio>
                                    <p:animMotion origin="layout" path="M 3.33333E-006 -1.11111E-006 L -0.12917 -1.11111E-006 E">
                                      <p:cBhvr>
                                        <p:cTn id="19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12917 -1.11111E-006 L -0.19584 -1.11111E-006 E">
                                      <p:cBhvr>
                                        <p:cTn id="19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umroll.wav"/>
                                        </p:tgtEl>
                                      </p:cMediaNode>
                                    </p:audio>
                                    <p:animMotion origin="layout" path="M -0.19584 -1.11111E-006 L -0.27084 -1.11111E-006 E">
                                      <p:cBhvr>
                                        <p:cTn id="20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umroll.wav"/>
                                        </p:tgtEl>
                                      </p:cMediaNode>
                                    </p:audio>
                                    <p:animMotion origin="layout" path="M -0.27084 -1.11111E-006 L -0.34584 -1.11111E-006 E">
                                      <p:cBhvr>
                                        <p:cTn id="20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umroll.wav"/>
                                        </p:tgtEl>
                                      </p:cMediaNode>
                                    </p:audio>
                                    <p:animMotion origin="layout" path="M -0.34584 -1.11111E-006 L -0.4125 -1.11111E-006 E">
                                      <p:cBhvr>
                                        <p:cTn id="2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umroll.wav"/>
                                        </p:tgtEl>
                                      </p:cMediaNode>
                                    </p:audio>
                                    <p:animMotion origin="layout" path="M -0.4125 -1.11111E-006 L -0.49584 -1.11111E-006 E">
                                      <p:cBhvr>
                                        <p:cTn id="2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umroll.wav"/>
                                        </p:tgtEl>
                                      </p:cMediaNode>
                                    </p:audio>
                                    <p:animMotion origin="layout" path="M -0.49584 -1.11111E-006 L -0.5875 -1.11111E-006 E">
                                      <p:cBhvr>
                                        <p:cTn id="2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umroll.wav"/>
                                        </p:tgtEl>
                                      </p:cMediaNode>
                                    </p:audio>
                                    <p:animMotion origin="layout" path="M -0.5875 -1.11111E-006 L -0.6875 -1.11111E-006 E">
                                      <p:cBhvr>
                                        <p:cTn id="2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umroll.wav"/>
                                        </p:tgtEl>
                                      </p:cMediaNode>
                                    </p:audio>
                                    <p:animMotion origin="layout" path="M -0.6875 -1.11111E-006 L -0.77917 -1.11111E-006 E">
                                      <p:cBhvr>
                                        <p:cTn id="2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pplause.wav"/>
                                        </p:tgtEl>
                                      </p:cMediaNode>
                                    </p:audio>
                                    <p:animMotion origin="layout" path="M -0.77917 -1.11111E-006 L -0.8625 -1.11111E-006 E">
                                      <p:cBhvr>
                                        <p:cTn id="2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5  na 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10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zvjezdicu  na dnu slajda , kako bi se njihov Djed Božičnjak pomaknuo naprij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es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Igru možete skratiti tako što ćete kliknuti dva puta za svaki točan odgov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ezentaciju  tematski prilagodila prema predlošku kolegice Majet s FRN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ubravka Petković. OŠ Fažana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sinac, 2oo9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54:40Z</dcterms:created>
  <dc:creator>Jeff Ertzberger</dc:creator>
  <dc:description/>
  <dc:language>en-US</dc:language>
  <cp:lastModifiedBy>Visnja</cp:lastModifiedBy>
  <dcterms:modified xsi:type="dcterms:W3CDTF">2010-03-08T16:07:02Z</dcterms:modified>
  <cp:revision>53</cp:revision>
  <dc:subject/>
  <dc:title>Slide 1</dc:title>
</cp:coreProperties>
</file>